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EAB-EE9B-47A8-91C5-F8363C65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21E-3887-4C43-8E24-ED204E3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56B-B706-4C90-A6C6-9AA31C46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DDD-9486-47DE-AF35-69BC00CF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9D5-68C0-4D77-BF03-D2C6800C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79F-524D-43B9-A9BA-233013A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DD7-2F2F-41A1-A648-321EED9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6F1-35AB-494D-93C5-D6B7FA4A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47C-2BA6-4FFB-B139-F885FE93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5D8-EC70-439B-B7D5-444451C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F91-B339-4E41-8993-618C3C8F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37B-984A-4A30-9E7B-93A29C7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2DFE7-9D46-4006-81E8-5092AD670D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034720"/>
            <a:ext cx="9070920" cy="2032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Il Piano Regionale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Gestione Rifiuti Urb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3060360"/>
            <a:ext cx="9070920" cy="36529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io Russo Kra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ss. Marco Mascag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Ancora discar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GRU: 605.000 T/anno in disca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Conseguenza inevitabile della mancata riduzione dei rifiuti, della RD al 50%, dell'assenza di impianti di recupero della materia, della scelta inceneritor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Non lo dicono solo gli ambientali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396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5000"/>
              </a:lnSpc>
              <a:spcBef>
                <a:spcPts val="1701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Times New Roman"/>
              </a:rPr>
              <a:t>ARPAC: Ritiene sovradimensionati gli inceneritori previsti nel pian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701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Times New Roman"/>
              </a:rPr>
              <a:t>ISPRA: Si osserva che il piano sembra impostato principalmente sulla realizzazione di impianti dedicati alla ricezione finale dei rifiuti prodotti (impianti di trattamento del rifiuto indifferenziato, inceneneritori e discariche) in contrasto con i principi enunciati nel piano stesso e dichiarati nella gerarchia comuni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Non lo dicono solo gli ambientali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78920" y="1068120"/>
            <a:ext cx="9720360" cy="63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426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426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Times New Roman"/>
              </a:rPr>
              <a:t>ARPAC “il Piano sottostima il fabbisogno di impianti di compostaggio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426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Times New Roman"/>
              </a:rPr>
              <a:t>è preferibile sovrastimare il fabisogno di impianti di compostaggio, perché “se l’impiantistica funzionale ai rifiuti urbani viene vista anche in sinergia con i rifiuti speciali, il Piano dovrebbe prevedere una sovrastima degli impianti di compostaggio, per far fronte anche al trattamento dei rifiuti organici, che derivano ad esempio dalle industrie agroalimentari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426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Times New Roman"/>
              </a:rPr>
              <a:t>La carenza di impianti di trattamento della frazione organica rende non economicamente e ambientalmente conveniente la raccolta differenziata dell'u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Il Piano è contrario alle normative UE e itali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987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iano di azione europeo per l'ambiente: riduzione rifiuti del 20% entro il 2010 e del 50% entro il 2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3000"/>
              </a:lnSpc>
              <a:spcBef>
                <a:spcPts val="1987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rarchia nella gestione dei rifiuti: riduzione, riuso, recupero della materia, incenerimento, discar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3000"/>
              </a:lnSpc>
              <a:spcBef>
                <a:spcPts val="1987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Raccolta differenziata al 65% nel 2012 (art. 205 L. 152/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3000"/>
              </a:lnSpc>
              <a:spcBef>
                <a:spcPts val="1987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98/2008: effettivamente riciclato del 50% al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</a:rPr>
              <a:t>Grazie dell'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80"/>
                </a:solidFill>
                <a:latin typeface="Arial"/>
              </a:rPr>
              <a:t>Pio Russo K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17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Associazione Marco Mascag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17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 u="sng">
                <a:solidFill>
                  <a:srgbClr val="000080"/>
                </a:solidFill>
                <a:uFillTx/>
                <a:latin typeface="Arial"/>
              </a:rPr>
              <a:t>www.giardinodimarco.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Per pianificare bisogna partire dai dati e fare previsioni realist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2000" y="1809360"/>
            <a:ext cx="972036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timare la quantità di rifiuti prodotti nei prossimi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timare la loro composizione (umido, plastica, carta ec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timare la raccolta differenziata nei prossimi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timare la qualità dei rifiuti raccolti in maniera differenzi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ottemperare agli obblighi di legge e raggiungere gli obiettivi fissati dalle n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98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cercare di orientare la realtà verso gli scenari più vantaggi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092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Perché il Piano Regionale Gestione Rifiuti Urbani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della Campania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non è un buon pia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166320"/>
            <a:ext cx="907092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tima della quantità di rifiuti in Camp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2000" y="1010880"/>
            <a:ext cx="9720360" cy="65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Produzione rifiuti 2008 (riduzione 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Per definire i fabbisogni: </a:t>
            </a: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2.723.326 T/anno, 7461,2 T/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Quale è il trend? Secondo il PRGRU +7,6% anno? No -4,7 (ISP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Emendamento approvato riduzione 10%, ma i fabbisogni non sono cambi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Il porta a porta determina una riduzione della produzione di rifiuti del 10-15%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La popolazione Campana è in diminu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Disaccoppiamento crecita economica-crescita dei rifiu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CenturyGothic;Bold"/>
              </a:rPr>
              <a:t>produzione annua realistica al 2015-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CenturyGothic;Bold"/>
              </a:rPr>
              <a:t>2.314.000-2.451.000 T/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  <a:ea typeface="CenturyGothic;Bold"/>
              </a:rPr>
              <a:t>* </a:t>
            </a:r>
            <a:r>
              <a:rPr b="1" lang="en-US" sz="1800" spc="-1" strike="noStrike">
                <a:solidFill>
                  <a:srgbClr val="000080"/>
                </a:solidFill>
                <a:latin typeface="Times New Roman"/>
                <a:ea typeface="CenturyGothic;Bold"/>
              </a:rPr>
              <a:t>Valutazione statistico-economica dei modelli di gestione dei rifiuti urbani in Lombardia”  (Regione Lombardia 20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Quale % di raccolta differenzi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584000"/>
            <a:ext cx="907092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econdo il PRGRU 50% di RD (anche nel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La legge impone una raccolta differenziata di almeno il 65% per l'anno 2012 (</a:t>
            </a: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CenturyGothic"/>
              </a:rPr>
              <a:t>art. 205, L. 152/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Le Province si sono date questo obiettivo del 6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La raccolta differenziata in Campania sta aumentando sempre più (nel 2007 era il 13%, nel 2008 il 19%, nel 2009 il 29%, nel 2010 il 39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e obiettivo del 65%, 120-160.000 T in meno da bruci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Se obiettivo per il 2016 75%: 200-280.000 T in meno da bruc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3240"/>
            <a:ext cx="100807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Un piano centrato sull'incener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3640" y="1471320"/>
            <a:ext cx="9396360" cy="5584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Fabbisogni di inceneritori secondo il PRGRU: 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1.531.000 T/anno (59% dei rifiuti prodotti secondo le stime PRGRU, circa 70% con riduzione 10-15% e RD al 7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li inceneritori durano almeno 30 anni, cosa bruceran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li inceneritori costano, inquinano, producono ce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Riciclare la plastica fa risparmiare fino al doppio di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37"/>
              </a:spcBef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l costo dell´energia elettrica prodotta dagli inceneritori è superiore a quella prodotta da petrolio, metano, eolico, idroelettrico (fonte EN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2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Rifiuti e sa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239840"/>
            <a:ext cx="9396360" cy="64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46 Studi epidemiolg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In 2/3 degli studi incremento statisticamente significativo di tumor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L'organizzazione Mondiale della Sanità: Gli studi non sono conclusivi ma ci sono forti sospetti per cui “è consigliabile ridurre quanto più è possibile la produzione di rifiuti e incrementare la raccolta differenziata e il riciclaggio” riducendo il più possibili il ricorso a inceneritori e discariche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) Franchini M, Rial M, Buiatti E, Bianchi F.: Health effects of exposure to waste incinerator emissions: a review of epidemiological studies. Ann. Ist. Sup. Sanità, 2004; 40(1): 101-1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) WHO: Population health and waste management scientific data and available options, 2007, www.euro.who.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anto è la % di umido nei rifiuti?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Quanti impianti di trattamento dell'organic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814040"/>
            <a:ext cx="957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1137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80"/>
                </a:solidFill>
                <a:latin typeface="Arial"/>
              </a:rPr>
              <a:t>PRGRU 27% di organico nei rifiuti (735.000 T/anno) Fabbisogno impianti: </a:t>
            </a:r>
            <a:r>
              <a:rPr b="1" lang="it-IT" sz="2800" spc="-1" strike="noStrike">
                <a:solidFill>
                  <a:srgbClr val="000080"/>
                </a:solidFill>
                <a:latin typeface="Arial"/>
                <a:ea typeface="Arial"/>
              </a:rPr>
              <a:t>560.000T/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1137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ISPRA: “ Mancano le fonti utili a capire come si è giunti alla stima della composizione merceologica dei rifiuti urbani”: 30-35% di organico (900-950.000T/an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1137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Fabbisogno impianti col 75% di RD: 850.000 T/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E il riciclagg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3280" y="1814040"/>
            <a:ext cx="921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spcBef>
                <a:spcPts val="1701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Non prevede sostegno ed incremento della filiera del ricic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1701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Non prevede impianti di separazione secco/umido dei rifiuti indifferenzi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1701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Non prevede impianti di trattamento del residuo della raccolta differenziata (deselezionatori spinti, trattamento meccanico manuale), anche se alcune Province e Comuni  li hanno in progr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2000"/>
              </a:lnSpc>
              <a:spcBef>
                <a:spcPts val="1701"/>
              </a:spcBef>
              <a:spcAft>
                <a:spcPts val="170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Per il PRGRU Il residuo della RD deve essere bruci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49:20Z</dcterms:created>
  <dc:creator>krauss </dc:creator>
  <dc:description/>
  <dc:language>en-US</dc:language>
  <cp:lastModifiedBy>krauss </cp:lastModifiedBy>
  <dcterms:modified xsi:type="dcterms:W3CDTF">2012-02-10T21:28:00Z</dcterms:modified>
  <cp:revision>4</cp:revision>
  <dc:subject/>
  <dc:title/>
</cp:coreProperties>
</file>